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658-04E8-4DDE-A007-69FAF81A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F40-F137-4D67-8A74-DA27F81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192-A31D-4CF3-B146-8464DFF3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F66-DCD5-401E-B810-B36FE4B9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EAF-E612-45E8-A178-3EFB8A92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7D65-608A-4904-8F2D-65489A5E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28E5-CC2B-46B4-8335-B002BE6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11C-68A1-43AF-B253-6701AF3F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F0C3-0F7F-44F7-9803-665DFBE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9E06-F9E9-41EA-8645-A76414E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FECF-8110-4B34-8266-8EC9543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737-A83F-4643-BA07-528AA98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506-A264-4682-B387-33D9AAF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AF33-A610-4D26-8D29-140F7AF6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A4B3-02E8-49E7-878D-0DAD2BD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C987-9C58-462E-848E-9CB91B3E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24E0-3D7B-43EF-9B77-37004F28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24F-42A6-47B7-B5D5-73D24342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535-B244-4146-B70A-8F4D22D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59E-B998-4277-9D4A-4B33BD98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55C-EE56-4B90-B3D7-C0E8F0E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FA3-7F57-47FC-BAF2-8A6493A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0CC-BD5B-42F0-91CB-32AE17D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353-6786-4A37-9396-B2CE235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41A0-61BA-4B18-86E4-94E1D73101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A85F-3462-4516-9746-EE39A567D2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Quiz on Solving Inequaliti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abel your 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-10, skipping 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1372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80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the following symbol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14479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the following symbol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22334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uld the following equation have an open or closed circl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2958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uld the following graph be shaded to the left or righ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036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uld the following graph be shaded to the left or righ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0258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864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6832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88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26:55Z</dcterms:created>
  <dc:creator>Christy Williams</dc:creator>
  <dc:description/>
  <dc:language>en-US</dc:language>
  <cp:lastModifiedBy>Christy Williams</cp:lastModifiedBy>
  <dcterms:modified xsi:type="dcterms:W3CDTF">2009-12-02T12:36:12Z</dcterms:modified>
  <cp:revision>1</cp:revision>
  <dc:subject/>
  <dc:title>Quiz on Solving Inequalities</dc:title>
</cp:coreProperties>
</file>